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8F2E-27BC-4B1C-B64C-C8FF8476E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5984-05AC-4228-93AD-52362AD3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F159-B12D-489A-A995-7611CF1BB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4549-13CA-478B-A7BB-8CF68D2C3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FE48-222D-4F3E-AB49-62E62A43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B79D-4050-4DC9-9048-837D0E9F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7C59-8047-4C03-B182-A5A40683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094C-D9EE-4C6C-BBE0-DD08D693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4D94-F114-412A-B38E-B71AEF28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3D02-A8D3-4372-9B07-39FD5ED0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346C-A508-401F-BBEC-9746A1EF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224A-CEC8-4B47-B5ED-0AEDAE1E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31EF-F777-4192-87BB-D00311688C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Cmr_8P7WIAE3X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80880" y="5409720"/>
            <a:ext cx="51818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резентацию состав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Воспитатель: Трегубова Л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3505320" cy="57913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5029200" y="1676520"/>
            <a:ext cx="3429000" cy="283824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сли дерево одн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 поле возвышается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о стоя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д ним в гроз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Людям запрещаетс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сли молния в нег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взначай ударит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о живого никого Рядом не оставит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3429000" cy="56386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5257800" y="1828800"/>
            <a:ext cx="2819520" cy="283824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икогда не ешьт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знакомых ягод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грибы-поганк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 рот тащить не надо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Голова закружится, Заболит живот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от отравлени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октор не спасет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3387600" cy="56386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5638680" y="1219320"/>
            <a:ext cx="2743200" cy="405792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олжны всерьез вы уяснить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Без взрослы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 лес нельзя ходить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едь заблудить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к легко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Уйти от дома далек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не найти назад пути..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больше к маме не дойти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358128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257800" y="1066680"/>
            <a:ext cx="3352680" cy="503568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ы попроси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хотим ребя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трога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аленьких зверя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в руки никогд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брать 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х ма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имчится защищать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ка еще малы они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х мама стереже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се дн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3657600" cy="54104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5410080" y="60480"/>
            <a:ext cx="3048120" cy="680220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сли по лес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 друзьями гуля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на пенечк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мею увидал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о не кричи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сзывай всех друзей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 отойди са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дальше скоре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мни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мея начинает кусаться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сли должн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т врагов защищаться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ы же не станеш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е обижать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ожешь спокойн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вой путь продолжат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3657600" cy="5562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5410080" y="1143000"/>
            <a:ext cx="2819520" cy="405792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ужно всегд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 здоровьем следить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потом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лагается мыт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Фрукты и овощ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еред едо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чень старательно теплой водой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ытое яблок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ярче блестит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а и живо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т него не болит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4724280" cy="31244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5791320" y="762120"/>
            <a:ext cx="2819160" cy="588744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распыляй аэрозол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близи открытого огн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т комара или от моли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т паука и от слепня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едь если брызнеш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ы на пламя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остер взовьет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о небес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в результате пострадаю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рузья, ты сам... и целый лес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228600" y="533520"/>
            <a:ext cx="3886200" cy="364464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есна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 поход спешат ребята!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о знать туриста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юным надо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тоб не страдал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вери, птицы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ироду портит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годится!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019920" y="457200"/>
            <a:ext cx="3124080" cy="421668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 поляны мусор соберит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на костр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го сожгите!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остер в лес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оставляйте 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еском, землею засыпайте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тоб не дымился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искрил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Беды в лес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натворил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3124080" y="2743200"/>
            <a:ext cx="29084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ика</dc:creator>
  <dc:description/>
  <dc:language>en-US</dc:language>
  <cp:lastModifiedBy>user</cp:lastModifiedBy>
  <dcterms:modified xsi:type="dcterms:W3CDTF">2020-04-22T15:13:53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